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CDF7-6EFE-4A8F-A79F-38D5692D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0ED-0096-4BC1-AB70-6EF0C6BC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931-14D2-434C-8C86-237F505A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3D0-EDDC-4082-A1FD-522422AB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8647-29F0-4FD5-ACA0-102220C0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FBCB-2904-4B93-9941-21D8A0D6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91AC-1133-478A-B88D-4EDA17CC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084D-077D-4862-8C17-81836DC1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D6D2-8147-429F-A878-82CF4EC6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9609-07E5-4FF8-8544-C180DAE1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0813-5E31-4C6C-B1D8-97477234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A58-652E-4882-A42D-0C668894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8DD8-829D-4104-B6CC-30E1E890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462D-1BAB-4264-B731-2FB6D296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BDBF-76D3-484D-888F-92274E01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A92B-FD65-4D95-9256-B1982692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1AB0-2A02-44BD-8131-1DAAE967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437B7-69AA-45AB-B381-BC41A8BC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26405-4A9E-4930-B374-5E53F39E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247CE-B09C-4D2F-862F-21AAFDE5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F7196-FE18-483E-81E8-13F58D5B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E4AE4-A7BD-417A-B16E-91F4A93B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045-159C-44F9-A05F-6EDFEBE3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48DC4-04EA-4754-BF18-FD559086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A3EBB-7767-498A-8904-DA37633E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8E635-CBFD-4AE5-99E4-1EE1637B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2D667-B1E5-4725-A053-16D90F8D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BF837-75A0-4BFB-BA67-699B555C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CFB72-A3A1-42EC-9796-6AAC0D88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28962-5782-4C83-BFE9-53B50D41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ACF4E-3008-4C48-A6B2-19CAC562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EFB27-B23E-4DCC-9D8F-8E068264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35023-AAE8-426A-A2E1-1B379C12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D64-37F1-4E6A-A856-043CDC9E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CDAC3-533A-4A33-B42D-29242202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1FBF8-1E3D-40BC-9EC9-3A2DC739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B3B1C-F937-4ADD-A68A-CB77329F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C368B-5EA5-4F34-A33E-7891C694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78FA7-CB61-4FA0-9EB2-B3F790D6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4398D-C416-49F6-B0D3-EBFBCD3C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06BAE-92CD-46A5-A4B4-0D0192FF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B9435-0B07-4666-BBF5-710BB08E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B42B8-1542-47BC-B90B-BB2BE12A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73764-D990-4D5A-960E-D6E6CB96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70E-6D46-4C2F-A327-CDE8C72F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2E29B-504F-4E08-8439-BB23B9E3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13F05-7F4E-418E-BEA8-693D3F52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BD36A-A74D-40C3-A5DD-8732F97A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8BF7F-CDEE-47FC-8462-26D71A45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19EED-6294-4985-9A79-A560102E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76D63-6A59-4342-A469-54669833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E9785-11ED-4C6B-8F18-93D77532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4C1EC-13FE-426A-80B3-FF48D8FF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550F0-FC61-41D2-B022-812B8C27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71BBD-08FA-4842-BDDF-65D8EF1F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E37-10CD-43AC-81BD-F2B65C7C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F068E-152B-4776-964E-1DC60BDD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77C2-486A-4A7A-9ED9-352D7515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DC7-F178-4598-A9F8-53579DFC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FD8-9354-4E0D-87E9-00D74626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Волна 7"/>
          <p:cNvSpPr/>
          <p:nvPr/>
        </p:nvSpPr>
        <p:spPr>
          <a:xfrm>
            <a:off x="142920" y="0"/>
            <a:ext cx="8858160" cy="6858000"/>
          </a:xfrm>
          <a:custGeom>
            <a:avLst/>
            <a:gdLst>
              <a:gd name="textAreaLeft" fmla="*/ 23760 w 8858160"/>
              <a:gd name="textAreaRight" fmla="*/ 8834400 w 8858160"/>
              <a:gd name="textAreaTop" fmla="*/ 426600 h 6858000"/>
              <a:gd name="textAreaBottom" fmla="*/ 643140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672"/>
                </a:moveTo>
                <a:cubicBezTo>
                  <a:pt x="7171" y="-1709"/>
                  <a:pt x="14371" y="3053"/>
                  <a:pt x="21542" y="672"/>
                </a:cubicBezTo>
                <a:lnTo>
                  <a:pt x="21600" y="20928"/>
                </a:lnTo>
                <a:cubicBezTo>
                  <a:pt x="14429" y="23309"/>
                  <a:pt x="7229" y="18547"/>
                  <a:pt x="58" y="20928"/>
                </a:cubicBezTo>
                <a:close/>
              </a:path>
            </a:pathLst>
          </a:custGeom>
          <a:solidFill>
            <a:srgbClr val="ebeadd">
              <a:alpha val="5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Рисунок 10" descr="1335519907_755ad610193c1.png"/>
          <p:cNvPicPr/>
          <p:nvPr/>
        </p:nvPicPr>
        <p:blipFill>
          <a:blip r:embed="rId3"/>
          <a:stretch/>
        </p:blipFill>
        <p:spPr>
          <a:xfrm>
            <a:off x="-142920" y="4643280"/>
            <a:ext cx="2166840" cy="237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F904-2AAE-4848-86B3-67CDFB3374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12"/>
          <p:cNvSpPr/>
          <p:nvPr/>
        </p:nvSpPr>
        <p:spPr>
          <a:xfrm>
            <a:off x="2000160" y="6642000"/>
            <a:ext cx="150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b0f0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Волна 9"/>
          <p:cNvSpPr/>
          <p:nvPr/>
        </p:nvSpPr>
        <p:spPr>
          <a:xfrm>
            <a:off x="142920" y="0"/>
            <a:ext cx="8858160" cy="6858000"/>
          </a:xfrm>
          <a:custGeom>
            <a:avLst/>
            <a:gdLst>
              <a:gd name="textAreaLeft" fmla="*/ 23760 w 8858160"/>
              <a:gd name="textAreaRight" fmla="*/ 8834400 w 8858160"/>
              <a:gd name="textAreaTop" fmla="*/ 426600 h 6858000"/>
              <a:gd name="textAreaBottom" fmla="*/ 643140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672"/>
                </a:moveTo>
                <a:cubicBezTo>
                  <a:pt x="7171" y="-1709"/>
                  <a:pt x="14371" y="3053"/>
                  <a:pt x="21542" y="672"/>
                </a:cubicBezTo>
                <a:lnTo>
                  <a:pt x="21600" y="20928"/>
                </a:lnTo>
                <a:cubicBezTo>
                  <a:pt x="14429" y="23309"/>
                  <a:pt x="7229" y="18547"/>
                  <a:pt x="58" y="20928"/>
                </a:cubicBezTo>
                <a:close/>
              </a:path>
            </a:pathLst>
          </a:custGeom>
          <a:solidFill>
            <a:srgbClr val="ebeadd">
              <a:alpha val="5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1" descr="i.jpg"/>
          <p:cNvPicPr/>
          <p:nvPr/>
        </p:nvPicPr>
        <p:blipFill>
          <a:blip r:embed="rId3"/>
          <a:stretch/>
        </p:blipFill>
        <p:spPr>
          <a:xfrm>
            <a:off x="0" y="55720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1"/>
          <p:cNvSpPr/>
          <p:nvPr/>
        </p:nvSpPr>
        <p:spPr>
          <a:xfrm>
            <a:off x="250992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b0f0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E6A4-7938-4825-A359-79CB5D5096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Волна 9"/>
          <p:cNvSpPr/>
          <p:nvPr/>
        </p:nvSpPr>
        <p:spPr>
          <a:xfrm>
            <a:off x="142920" y="0"/>
            <a:ext cx="8858160" cy="6858000"/>
          </a:xfrm>
          <a:custGeom>
            <a:avLst/>
            <a:gdLst>
              <a:gd name="textAreaLeft" fmla="*/ 23760 w 8858160"/>
              <a:gd name="textAreaRight" fmla="*/ 8834400 w 8858160"/>
              <a:gd name="textAreaTop" fmla="*/ 426600 h 6858000"/>
              <a:gd name="textAreaBottom" fmla="*/ 643140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672"/>
                </a:moveTo>
                <a:cubicBezTo>
                  <a:pt x="7171" y="-1709"/>
                  <a:pt x="14371" y="3053"/>
                  <a:pt x="21542" y="672"/>
                </a:cubicBezTo>
                <a:lnTo>
                  <a:pt x="21600" y="20928"/>
                </a:lnTo>
                <a:cubicBezTo>
                  <a:pt x="14429" y="23309"/>
                  <a:pt x="7229" y="18547"/>
                  <a:pt x="58" y="20928"/>
                </a:cubicBezTo>
                <a:close/>
              </a:path>
            </a:pathLst>
          </a:custGeom>
          <a:solidFill>
            <a:srgbClr val="ebeadd">
              <a:alpha val="5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1" descr="i.jpg"/>
          <p:cNvPicPr/>
          <p:nvPr/>
        </p:nvPicPr>
        <p:blipFill>
          <a:blip r:embed="rId3"/>
          <a:stretch/>
        </p:blipFill>
        <p:spPr>
          <a:xfrm>
            <a:off x="0" y="55720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1"/>
          <p:cNvSpPr/>
          <p:nvPr/>
        </p:nvSpPr>
        <p:spPr>
          <a:xfrm>
            <a:off x="272448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b0f0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045F-4F3F-4927-B0BD-B239A6E3D8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Волна 9"/>
          <p:cNvSpPr/>
          <p:nvPr/>
        </p:nvSpPr>
        <p:spPr>
          <a:xfrm>
            <a:off x="142920" y="0"/>
            <a:ext cx="8858160" cy="6858000"/>
          </a:xfrm>
          <a:custGeom>
            <a:avLst/>
            <a:gdLst>
              <a:gd name="textAreaLeft" fmla="*/ 23760 w 8858160"/>
              <a:gd name="textAreaRight" fmla="*/ 8834400 w 8858160"/>
              <a:gd name="textAreaTop" fmla="*/ 426600 h 6858000"/>
              <a:gd name="textAreaBottom" fmla="*/ 643140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672"/>
                </a:moveTo>
                <a:cubicBezTo>
                  <a:pt x="7171" y="-1709"/>
                  <a:pt x="14371" y="3053"/>
                  <a:pt x="21542" y="672"/>
                </a:cubicBezTo>
                <a:lnTo>
                  <a:pt x="21600" y="20928"/>
                </a:lnTo>
                <a:cubicBezTo>
                  <a:pt x="14429" y="23309"/>
                  <a:pt x="7229" y="18547"/>
                  <a:pt x="58" y="20928"/>
                </a:cubicBezTo>
                <a:close/>
              </a:path>
            </a:pathLst>
          </a:custGeom>
          <a:solidFill>
            <a:srgbClr val="ebeadd">
              <a:alpha val="5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23670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b0f0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5C5C-882B-42F5-B774-1B2D7EA886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Волна 9"/>
          <p:cNvSpPr/>
          <p:nvPr/>
        </p:nvSpPr>
        <p:spPr>
          <a:xfrm>
            <a:off x="142920" y="0"/>
            <a:ext cx="8858160" cy="6858000"/>
          </a:xfrm>
          <a:custGeom>
            <a:avLst/>
            <a:gdLst>
              <a:gd name="textAreaLeft" fmla="*/ 23760 w 8858160"/>
              <a:gd name="textAreaRight" fmla="*/ 8834400 w 8858160"/>
              <a:gd name="textAreaTop" fmla="*/ 426600 h 6858000"/>
              <a:gd name="textAreaBottom" fmla="*/ 643140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672"/>
                </a:moveTo>
                <a:cubicBezTo>
                  <a:pt x="7171" y="-1709"/>
                  <a:pt x="14371" y="3053"/>
                  <a:pt x="21542" y="672"/>
                </a:cubicBezTo>
                <a:lnTo>
                  <a:pt x="21600" y="20928"/>
                </a:lnTo>
                <a:cubicBezTo>
                  <a:pt x="14429" y="23309"/>
                  <a:pt x="7229" y="18547"/>
                  <a:pt x="58" y="20928"/>
                </a:cubicBezTo>
                <a:close/>
              </a:path>
            </a:pathLst>
          </a:custGeom>
          <a:solidFill>
            <a:srgbClr val="ebeadd">
              <a:alpha val="5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11" descr="i.jpg"/>
          <p:cNvPicPr/>
          <p:nvPr/>
        </p:nvPicPr>
        <p:blipFill>
          <a:blip r:embed="rId3"/>
          <a:stretch/>
        </p:blipFill>
        <p:spPr>
          <a:xfrm>
            <a:off x="0" y="5769000"/>
            <a:ext cx="1643040" cy="12319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1"/>
          <p:cNvSpPr/>
          <p:nvPr/>
        </p:nvSpPr>
        <p:spPr>
          <a:xfrm>
            <a:off x="229572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b0f0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4F46-5C4A-4375-9D2E-7010C2C543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.И.Носов «Живое пламя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54764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к сочин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одзаголовок 2"/>
          <p:cNvSpPr/>
          <p:nvPr/>
        </p:nvSpPr>
        <p:spPr>
          <a:xfrm>
            <a:off x="169236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СОШ №2 г.Усмани Липецкой об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илова Н.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ва речь героин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у какой из мака цвет! Это овощ. Его на грядках вместе с луком и огурцами сеют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…всё лето торчит эта самая колотушка, только вид порти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чь героини  проста, выдаёт в н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лограмотную женщ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же тогда Ольга Петровна занялась разведением цвет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Я вышел посмотреть на цветы. Клумба стала неузнаваемой. По самому краю расстилался коврик , который своим густым покровом с разбросанными по нему цветами очень напоминал настоящий ковёр. Потом клумбу опоясывала лента маттиол- скромных ночных цветков, привлекающих к себе не яркостью, а нежно-горьковатым ароматом, похожим на запах ванили. Пестрели картинки жёлто-фиолетовых анютиных глазок, раскачивались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нких ножках пурпурно-бархатные шляпки парижских красавиц. Было много других знакомых и незнакомых цветов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5" descr="Landscaping"/>
          <p:cNvPicPr/>
          <p:nvPr/>
        </p:nvPicPr>
        <p:blipFill>
          <a:blip r:embed="rId1"/>
          <a:stretch/>
        </p:blipFill>
        <p:spPr>
          <a:xfrm>
            <a:off x="5940360" y="5373720"/>
            <a:ext cx="202248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итайте слова Ольги Петровны о судьбе мака и судьбе её сына Алексе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- Короткая у него жизнь. Зато без оглядки, в полную силу прожита. И у людей так бывает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…ещё совсем свежий, в капельках росы, вспыхнувший могуществом человеческого духа и сгоревший без огляд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исание ма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здали маки походили на зажжённые факелы с живыми, весело полыхающими на ветру языками пламени. Лёгкий ветер чуть колыхал,а солнце пронизывало светом полупрозрачные алые лепестки, отчего маки то вспыхивали трепетно-ярким огнём, то наливались густым багрянце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4" descr="ghivoe-plamya-vgeniy-nosov-photo-by-TOLSTIHIN-MICHAIL-clever-russia-umnaya-rossiya"/>
          <p:cNvPicPr/>
          <p:nvPr/>
        </p:nvPicPr>
        <p:blipFill>
          <a:blip r:embed="rId1"/>
          <a:stretch/>
        </p:blipFill>
        <p:spPr>
          <a:xfrm>
            <a:off x="3059280" y="3933720"/>
            <a:ext cx="32256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ов смысл слов из цитат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буйно пламенеющ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трепетно-яркий огон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густой багрянец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символ возвышенног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роиче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уясь «большим костром маков», автор что увиде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низу, из влажной, полной жизненной силы земли, подымались всё новые и новые туго свёрнутые бутоны, чтобы не дать погаснуть живому огн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оическое продолжает жить среди нас, в нашем созн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ь питает нравственный дух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ь всегда с н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авная мысль произведения- память о погибших в Великой Отечественной войне живёт в сердцах родных и совсем не знакомых люд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ти  77 лет прошло со Дня побед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еликой Отечественной вой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4" descr="forumfullimg~crimea~1363342077867~1365659401603"/>
          <p:cNvPicPr/>
          <p:nvPr/>
        </p:nvPicPr>
        <p:blipFill>
          <a:blip r:embed="rId1"/>
          <a:stretch/>
        </p:blipFill>
        <p:spPr>
          <a:xfrm>
            <a:off x="539640" y="2852640"/>
            <a:ext cx="1871640" cy="11527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1692360" y="2846520"/>
            <a:ext cx="7100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войны всегда остаётся глав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ой потому, что нельзя забыть поднятую                             взрывами  родную земл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льзя вычеркнуть из памяти погиба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ях солд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ирающих от голода детей, женщин, стариков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img31"/>
          <p:cNvPicPr/>
          <p:nvPr/>
        </p:nvPicPr>
        <p:blipFill>
          <a:blip r:embed="rId2"/>
          <a:stretch/>
        </p:blipFill>
        <p:spPr>
          <a:xfrm>
            <a:off x="6372360" y="5013360"/>
            <a:ext cx="21542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.И.Но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5" descr="nosov_5"/>
          <p:cNvPicPr/>
          <p:nvPr/>
        </p:nvPicPr>
        <p:blipFill>
          <a:blip r:embed="rId1"/>
          <a:stretch/>
        </p:blipFill>
        <p:spPr>
          <a:xfrm>
            <a:off x="539640" y="1557360"/>
            <a:ext cx="2979720" cy="3240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687474703a2f2f3930306967722e6e65742f64617461732f6c6974657261747572612f457667656e696a2d4e6f736f762f303030322d3030322d5a4869766f652d706c616d6a612e6a7067"/>
          <p:cNvPicPr/>
          <p:nvPr/>
        </p:nvPicPr>
        <p:blipFill>
          <a:blip r:embed="rId2"/>
          <a:srcRect l="45949" t="18331" r="0" b="0"/>
          <a:stretch/>
        </p:blipFill>
        <p:spPr>
          <a:xfrm>
            <a:off x="4643280" y="1341360"/>
            <a:ext cx="37069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Живое пламя»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сборника рассказов Е.И.Носова «На рыбачьей троп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 рассказе «Живое пламя» - немалое внутреннее напряжение, постоянная работа мысли и чувства писателя, связанная со своеобразным «восстановлением» каких-то важных, прерванных войной взаимосвяз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Чалма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чём эта миниатюр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быте жителей окраины горо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 увлечении хозяйк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памяти сердц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4" descr="32717347"/>
          <p:cNvPicPr/>
          <p:nvPr/>
        </p:nvPicPr>
        <p:blipFill>
          <a:blip r:embed="rId1"/>
          <a:stretch/>
        </p:blipFill>
        <p:spPr>
          <a:xfrm>
            <a:off x="5076720" y="3789360"/>
            <a:ext cx="323856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ойцы, не пришедшие с фронта, все равно возвращаются в нашу жизн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новением вете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хим ут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сминовым кус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рко вспыхнувшим цветком на клум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ой видим тётю Олю в рассказ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5" descr="0002-002-ZHivoe-plamja"/>
          <p:cNvPicPr/>
          <p:nvPr/>
        </p:nvPicPr>
        <p:blipFill>
          <a:blip r:embed="rId1"/>
          <a:stretch/>
        </p:blipFill>
        <p:spPr>
          <a:xfrm>
            <a:off x="395280" y="1484280"/>
            <a:ext cx="2844720" cy="38163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6"/>
          <p:cNvSpPr/>
          <p:nvPr/>
        </p:nvSpPr>
        <p:spPr>
          <a:xfrm>
            <a:off x="3134520" y="2421360"/>
            <a:ext cx="574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не жалуется на свою судьбу, уже не плач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её душа полна ПЕЧ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БЬ  проявляется в её словах, мимике, жес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тимся к тексту расск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огда я снимал эту комнату, Ольга Петровна, подняв глаза на портрет юноши в лётной форме, что висит над письменным столом, спроси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Не мешает?..Это мой сын Алексей. И комната была его…» «Алексей погиб, спикировав на своём крошечном «ястребке» на спину тяжёлого фашистского бомбардировщи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описывает автор предметы в доме тёти Ол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яжёлая медная кружка с квасом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чулан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берестяной короб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а завалинк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08:39:59Z</dcterms:created>
  <dc:creator>User</dc:creator>
  <dc:description/>
  <dc:language>en-US</dc:language>
  <cp:lastModifiedBy>eMachines</cp:lastModifiedBy>
  <dcterms:modified xsi:type="dcterms:W3CDTF">2022-03-09T16:24:45Z</dcterms:modified>
  <cp:revision>9</cp:revision>
  <dc:subject/>
  <dc:title>Е.И.Носов «Живое пламя» 7 класс</dc:title>
</cp:coreProperties>
</file>